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D02-12AC-415D-B992-DA840F70A4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9EE1-321B-49C3-9C4F-2F2B26071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03A3-7FF9-4D0A-8F36-DDB656CD10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80BE-650E-42E1-BC67-2B6C2F716E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152E-1D05-4CCB-9683-6A1EB9514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19BB-7F0C-4948-9695-E519322ACF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CA10-8454-4370-9816-C7203DB060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6B5B-1BC7-4AC8-94DC-AA51D97BDC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E29F-10F9-4CFF-B51D-8C4F84E6C6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BD9E-0265-41AD-A90A-C275A5185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073C-37A7-4A48-BF9F-82BE7D831C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B4D-B2A9-41E9-B46D-E3908DDB0B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A58-F050-4A9D-A8C1-0A9083BED2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A2C-2A6E-4A07-8807-6B5E740CD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B907-B0AF-4170-9E2B-63B5A8EEE4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A46-2620-4923-BD5D-AE121D91E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631F-3007-4D7F-A4E1-8726F7BE7D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8DD0-956D-48EE-9144-038217C6B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522F-7383-4D59-8E52-55BFDEC65F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4B6-BFA9-4F8E-8013-3A92E2F140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6D91-1A97-4C04-A96C-FFF26E5E3E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9229-593C-4773-9347-289005EA0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527-2C61-475C-AFD3-6084A7AFA6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0044-1F53-45D7-8077-D47F4E8BA4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31D2-B7EA-4DD0-8213-971EDD5554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E6A-A4E8-4B30-AB37-259C92DD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803-E74E-492D-897E-BBE3A670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BA6-BF80-47D5-8AF5-456114FD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BE1-92A1-49DE-9013-DDA49240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7DB0-3C04-40B6-9804-7E52FF53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A131-87D9-4DF2-BA9C-D16A6742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04DF-E9F6-446A-8B04-294B7073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CF4B-339D-457C-8EE6-A7D674D0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A9D5-1679-4CAE-A51D-963277A6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E108-9145-4199-A0F1-BFAFA253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2BF5-D6E8-4266-8A43-441649E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F8B-07DE-4E32-A1A1-79FFF6CE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D9FF-E955-4926-9820-E87F7228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4C84-680C-4C1C-B681-7FD715F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EC9D-6F3E-411D-B3C0-BF990CB5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65FC-C410-443B-B32F-98FF4113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DCB7-7EAE-46F5-B362-64DE50D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A16-3888-4EA8-ACD1-FE9967F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199-5C46-45A1-925B-416EA470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58C-322F-49BB-AC13-5A95A9E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911-4C56-4151-A637-8CB067B5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128-5E86-42DE-ACF7-3F3EB24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394-4687-416A-87B2-F908961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521-D6DA-438A-BB5F-3404CCB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6457-5E51-4165-94D8-2612D304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2CA-8D38-4C36-9211-9697C8610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66724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06560"/>
              <a:gd name="textAreaBottom" fmla="*/ 107280 h 10656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>
              <a:gd name="textAreaLeft" fmla="*/ 0 w 304560"/>
              <a:gd name="textAreaRight" fmla="*/ 304920 w 304560"/>
              <a:gd name="textAreaTop" fmla="*/ -360 h 106200"/>
              <a:gd name="textAreaBottom" fmla="*/ 106200 h 10620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>
              <a:gd name="textAreaLeft" fmla="*/ 0 w 76320"/>
              <a:gd name="textAreaRight" fmla="*/ 7632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>
              <a:gd name="textAreaLeft" fmla="*/ 0 w 76320"/>
              <a:gd name="textAreaRight" fmla="*/ 7632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06560"/>
              <a:gd name="textAreaBottom" fmla="*/ 107280 h 10656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>
              <a:gd name="textAreaLeft" fmla="*/ 0 w 304560"/>
              <a:gd name="textAreaRight" fmla="*/ 304920 w 304560"/>
              <a:gd name="textAreaTop" fmla="*/ -360 h 106200"/>
              <a:gd name="textAreaBottom" fmla="*/ 106200 h 106200"/>
            </a:gdLst>
            <a:ahLst/>
            <a:rect l="textAreaLeft" t="textAreaTop" r="textAreaRight" b="textAreaBottom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>
              <a:gd name="textAreaLeft" fmla="*/ 0 w 76320"/>
              <a:gd name="textAreaRight" fmla="*/ 76320 w 76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>
              <a:gd name="textAreaLeft" fmla="*/ 0 w 304920"/>
              <a:gd name="textAreaRight" fmla="*/ 305280 w 3049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>
              <a:gd name="textAreaLeft" fmla="*/ 0 w 304560"/>
              <a:gd name="textAreaRight" fmla="*/ 304920 w 304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>
              <a:gd name="textAreaLeft" fmla="*/ 0 w 304560"/>
              <a:gd name="textAreaRight" fmla="*/ 304920 w 30456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>
              <a:gd name="textAreaLeft" fmla="*/ -360 w 152280"/>
              <a:gd name="textAreaRight" fmla="*/ 15228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>
              <a:gd name="textAreaLeft" fmla="*/ 0 w 450720"/>
              <a:gd name="textAreaRight" fmla="*/ 451080 w 45072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>
              <a:gd name="textAreaLeft" fmla="*/ -360 w 149400"/>
              <a:gd name="textAreaRight" fmla="*/ 149400 w 149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b2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b2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>
                <a:gd name="textAreaLeft" fmla="*/ 0 w 424440"/>
                <a:gd name="textAreaRight" fmla="*/ 424800 w 42444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60240"/>
                <a:gd name="textAreaBottom" fmla="*/ 660240 h 660240"/>
              </a:gdLst>
              <a:ahLst/>
              <a:rect l="textAreaLeft" t="textAreaTop" r="textAreaRight" b="textAreaBottom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19720"/>
                <a:gd name="textAreaBottom" fmla="*/ 820080 h 819720"/>
              </a:gdLst>
              <a:ahLst/>
              <a:rect l="textAreaLeft" t="textAreaTop" r="textAreaRight" b="textAreaBottom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>
              <a:gd name="textAreaLeft" fmla="*/ 0 w 304920"/>
              <a:gd name="textAreaRight" fmla="*/ 305280 w 3049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>
              <a:gd name="textAreaLeft" fmla="*/ 0 w 76320"/>
              <a:gd name="textAreaRight" fmla="*/ 7632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BeasoA</cp:lastModifiedBy>
  <dcterms:modified xsi:type="dcterms:W3CDTF">2010-10-28T20:22:00Z</dcterms:modified>
  <cp:revision>410</cp:revision>
  <dc:subject/>
  <dc:title>PowerPoint Presentation</dc:title>
</cp:coreProperties>
</file>